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71D-2657-4E64-8049-FB770377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2C3-B0C2-44F0-9159-BE622FD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743-CDB5-44E8-9F2D-078C2BB3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7BF-9823-4898-A3D1-9E42394C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C94-4CCA-4931-81E6-D16FBCEE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CD09-1D6A-4502-B983-76A403EF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D016-8C61-4279-A2E8-6FB4690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16C8-7BB6-4D36-B502-DC76DAA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19C0-BBD0-4CF6-9E49-DE4108E6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0A0A-362D-4730-8694-E06A08B6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690E-E439-4C32-9E16-EF237832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7A4-EE41-4F0B-80B7-65AF393B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0D42-93EB-4F54-848B-87657D5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C640-7140-485D-9288-C19BD597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D982-21B4-446A-9418-AAD55224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E78F-A13C-4AE5-A659-F7A5C2AA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03D1-A1AA-4A61-B03E-8BC54ECE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021-906B-44C1-AC39-C7660CF6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413-5DEC-4829-AB55-F3306B6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C75-0D6E-47A1-B8C1-26F0A33E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D16-2A30-49AF-BAC1-D6C7530D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01D-0AFE-409F-BB24-8BB56E7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519-29F3-4BB9-BD1F-A44D5964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98C-0A99-461F-974A-003CCB18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596-D909-4A05-ADDF-A3920FC0F6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5EE0-87BF-47F9-A585-3C280CFCC7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bskids.org/cyberchase/games/equivalentfractions/" TargetMode="External"/><Relationship Id="rId2" Type="http://schemas.openxmlformats.org/officeDocument/2006/relationships/hyperlink" Target="http://pbskids.org/cyberchase/games/equivalentfractions/" TargetMode="External"/><Relationship Id="rId3" Type="http://schemas.openxmlformats.org/officeDocument/2006/relationships/hyperlink" Target="http://pbskids.org/cyberchase/games/equivalentfraction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omplete the chart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95280" y="1600200"/>
          <a:ext cx="6096240" cy="4648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14800" y="2209680"/>
          <a:ext cx="3794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3794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191120" y="3809880"/>
          <a:ext cx="3380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809880"/>
                    <a:ext cx="3380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91120" y="5410080"/>
          <a:ext cx="2934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5410080"/>
                    <a:ext cx="29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5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omparing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o compare fractions and decimals, alone or mixed together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n you put the following numbers in order from least to greatest, what are your eye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TUALL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doing?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36, 547, 548, 5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lnSpc>
                <a:spcPct val="90000"/>
              </a:lnSpc>
              <a:spcBef>
                <a:spcPts val="700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505320" y="4038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e order numbers, our eyes move from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s we go from the  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How will this change wit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cimal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comparing with fractions, we’ll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, but we must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fir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426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0.43,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81280" y="3352680"/>
          <a:ext cx="5302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34120" y="3429000"/>
          <a:ext cx="45540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429000"/>
                    <a:ext cx="455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2590920"/>
          <a:ext cx="3823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3823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971800" y="2666880"/>
          <a:ext cx="5302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66688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371600" y="4876920"/>
          <a:ext cx="453960" cy="88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876920"/>
                    <a:ext cx="45396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819520" y="4952880"/>
          <a:ext cx="32364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952880"/>
                    <a:ext cx="32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5334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-302400">
              <a:spcBef>
                <a:spcPts val="700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you’re building a tree house, your uncle tells you that all fractions with a 4 in the numerator are “basically all the same”.  Is this true? 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3809880"/>
          <a:ext cx="752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543800" y="3429000"/>
          <a:ext cx="1150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429000"/>
                    <a:ext cx="1150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75160" y="3809880"/>
          <a:ext cx="511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5160" y="3809880"/>
                    <a:ext cx="511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809880" y="4114800"/>
          <a:ext cx="797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114800"/>
                    <a:ext cx="797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438280" y="4191120"/>
          <a:ext cx="4431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191120"/>
                    <a:ext cx="443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Equivalent Fractions Matching G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00"/>
                </a:solidFill>
                <a:uFillTx/>
                <a:latin typeface="Arial"/>
                <a:hlinkClick r:id="rId2"/>
              </a:rPr>
              <a:t>Cyberchase</a:t>
            </a:r>
            <a:r>
              <a:rPr b="0" lang="en-US" sz="2600" spc="-1" strike="noStrike" u="sng">
                <a:solidFill>
                  <a:srgbClr val="669900"/>
                </a:solidFill>
                <a:uFillTx/>
                <a:latin typeface="Arial"/>
                <a:hlinkClick r:id="rId3"/>
              </a:rPr>
              <a:t> Percent Matching G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22T19:10:14Z</dcterms:modified>
  <cp:revision>53</cp:revision>
  <dc:subject/>
  <dc:title>Unit 1 – Variables and Equations </dc:title>
</cp:coreProperties>
</file>